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E965-F70C-4B16-BBF3-38811AAE7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BF0D-306A-4880-A9DD-99824E55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062D-B6E2-435C-9BBE-0CA3D3AE9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AC0B-D183-49D6-AFC8-FF1279350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6FE5-6A68-48F8-9A0F-333A1598E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0B99-97FE-49E9-B177-76E0D8BD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485C-6BDA-41DF-B4A9-16ACC499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6B073-AAFA-4366-8B55-FFF885FB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4BE6-3B2B-4274-8372-3CF7C817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DB17-2E2E-43D0-B373-0842E911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26D7-D6F8-43D4-BCBB-C00DA6C8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3B43-880A-4A76-AEFA-2F19E3B1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2997-5A89-43C9-8F4A-D025ED55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61C1-D08B-4A09-A890-5B0B3705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23D4-BDCE-4E66-A88E-5C74145A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1B6E-D874-42A9-896C-4D8552F45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FDD5-9C69-44BD-B1CA-0CC19CA25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D205-1D82-4AA6-BF99-10D6B3F3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E526-EAEB-47C3-A46D-A750CD0C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8871-C1CB-4C07-AA4D-2A4DC4D7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6BAD-8FA5-4371-A02C-85511DB3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501E-C318-47F0-9085-875484F9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8EF7-8481-4296-9900-5F7D2FF2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A071-073E-4AC5-A346-87AC6E3E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Rectangle 3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Picture 4" descr="C:\abitbetter\MS-039\graphics\hokusai2.GIF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750A-7DA1-40DA-8B3E-1FEDEB5DC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Rectangle 3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Picture 4" descr="C:\abitbetter\MS-039\graphics\hokusai2.GIF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D6B9-32AD-486D-AF5C-7AB4E4BB5E90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subakishrine.com/omamori/kamidana.html" TargetMode="External"/><Relationship Id="rId2" Type="http://schemas.openxmlformats.org/officeDocument/2006/relationships/hyperlink" Target="http://www.tsubakishrine.com/test/supplies/kamidana.asp" TargetMode="External"/><Relationship Id="rId3" Type="http://schemas.openxmlformats.org/officeDocument/2006/relationships/hyperlink" Target="http://images.google.com/imgres?imgurl=www.jccc.net/~jjackson/isec.jpg&amp;imgrefurl=http://www.jccc.net/~jjackson/ise.html&amp;h=393&amp;w=422&amp;sz=51&amp;tbnid=wzSfVcQnM64J:&amp;tbnh=113&amp;tbnw=121&amp;prev=/images?q=ise+shrine&amp;hl=en&amp;lr=&amp;ie=UTF-8&amp;newwindow=1&amp;client=REAL-tb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61c62"/>
                </a:solidFill>
                <a:latin typeface="Matura MT Script Capitals"/>
                <a:ea typeface="Matura MT Script Capitals"/>
              </a:rPr>
              <a:t>Shinto</a:t>
            </a:r>
            <a:endParaRPr b="0" lang="en-US" sz="88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8600" y="28954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“</a:t>
            </a:r>
            <a:r>
              <a:rPr b="0" i="1" lang="en-US" sz="5400" spc="-1" strike="noStrike">
                <a:solidFill>
                  <a:srgbClr val="2d2525"/>
                </a:solidFill>
                <a:latin typeface="Matura MT Script Capitals"/>
                <a:ea typeface="Matura MT Script Capitals"/>
              </a:rPr>
              <a:t>Way of the Spirits”</a:t>
            </a:r>
            <a:endParaRPr b="0" i="1" lang="en-US" sz="5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Matura MT Script Capitals"/>
              </a:rPr>
              <a:t>The Four</a:t>
            </a: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Matura MT Script Capitals"/>
              </a:rPr>
              <a:t>Affirmation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radition and Family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Love of Natur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Physical cleanlines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Matsuri: festivals that worship and honor the Kami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304920" y="228600"/>
          <a:ext cx="1123920" cy="10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11239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75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Matura MT Script Capitals"/>
              </a:rPr>
              <a:t>Shinto Practices</a:t>
            </a: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Matura MT Script Capitals"/>
              </a:rPr>
              <a:t>Tradition and Family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525"/>
                </a:solidFill>
                <a:latin typeface="Times New Roman"/>
              </a:rPr>
              <a:t>Life cycle celebrations take place at shrines: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525"/>
                </a:solidFill>
                <a:latin typeface="Times New Roman"/>
              </a:rPr>
              <a:t>Newborn</a:t>
            </a:r>
            <a:r>
              <a:rPr b="1" i="1" lang="ja-JP" sz="2800" spc="-1" strike="noStrike">
                <a:solidFill>
                  <a:srgbClr val="2d2525"/>
                </a:solidFill>
                <a:latin typeface="Times New Roman"/>
              </a:rPr>
              <a:t>’</a:t>
            </a:r>
            <a:r>
              <a:rPr b="1" i="1" lang="en-US" sz="2800" spc="-1" strike="noStrike">
                <a:solidFill>
                  <a:srgbClr val="2d2525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 first visit to shrine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525"/>
                </a:solidFill>
                <a:latin typeface="Times New Roman"/>
              </a:rPr>
              <a:t>7-5-3 festival: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 blessings for boys age 5, girls ages 3 &amp; 7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525"/>
                </a:solidFill>
                <a:latin typeface="Times New Roman"/>
              </a:rPr>
              <a:t>Entry to adulthood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 (age 20)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525"/>
                </a:solidFill>
                <a:latin typeface="Times New Roman"/>
              </a:rPr>
              <a:t>Marriage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(since Shinto celebrates life in this world, in death, the Japanese turn to Buddhist rather than Shinto rituals)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graphicFrame>
        <p:nvGraphicFramePr>
          <p:cNvPr id="134" name="Object 4"/>
          <p:cNvGraphicFramePr/>
          <p:nvPr/>
        </p:nvGraphicFramePr>
        <p:xfrm>
          <a:off x="304920" y="228600"/>
          <a:ext cx="1123920" cy="10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11239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75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Matura MT Script Capitals"/>
              </a:rPr>
              <a:t>Shinto Practice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d2525"/>
                </a:solidFill>
                <a:latin typeface="Times New Roman"/>
              </a:rPr>
              <a:t>Love of Nature: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Annual cycle of seasonal festival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d2525"/>
                </a:solidFill>
                <a:latin typeface="Times New Roman"/>
              </a:rPr>
              <a:t>Physical Cleanliness: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Misoji - Water purification rites to wash away impurity, thus restoring original purity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graphicFrame>
        <p:nvGraphicFramePr>
          <p:cNvPr id="138" name="Object 1024"/>
          <p:cNvGraphicFramePr/>
          <p:nvPr/>
        </p:nvGraphicFramePr>
        <p:xfrm>
          <a:off x="304920" y="228600"/>
          <a:ext cx="1123920" cy="10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11239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Picture 1031" descr="http://www.tsubakishrine.com/test/images/timfalls.jpg"/>
          <p:cNvPicPr/>
          <p:nvPr/>
        </p:nvPicPr>
        <p:blipFill>
          <a:blip r:embed="rId3"/>
          <a:stretch/>
        </p:blipFill>
        <p:spPr>
          <a:xfrm>
            <a:off x="6553080" y="533520"/>
            <a:ext cx="22719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75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8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Matura MT Script Capitals"/>
              </a:rPr>
              <a:t>Shinto on the Web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525"/>
                </a:solidFill>
                <a:latin typeface="Times New Roman"/>
              </a:rPr>
              <a:t>Ancient Japan: Shinto Creation Stories http://www.wsu.edu/~dee/ANCJAPAN/CREAT.HTM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525"/>
                </a:solidFill>
                <a:latin typeface="Times New Roman"/>
              </a:rPr>
              <a:t>Visit a Shinto shrine on-line: Tsubaki Grand Shrine of America  http://www.tsubakishrine.com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525"/>
                </a:solidFill>
                <a:latin typeface="Times New Roman"/>
              </a:rPr>
              <a:t>The Shinto Online Network Association http://jinja.or.jp/modules/pico/index.php?cat_id=2  (</a:t>
            </a:r>
            <a:r>
              <a:rPr b="1" i="1" lang="ja-JP" sz="2800" spc="-1" strike="noStrike">
                <a:solidFill>
                  <a:srgbClr val="2d2525"/>
                </a:solidFill>
                <a:latin typeface="Times New Roman"/>
              </a:rPr>
              <a:t>“</a:t>
            </a:r>
            <a:r>
              <a:rPr b="1" i="1" lang="en-US" sz="2800" spc="-1" strike="noStrike">
                <a:solidFill>
                  <a:srgbClr val="2d2525"/>
                </a:solidFill>
                <a:latin typeface="Times New Roman"/>
              </a:rPr>
              <a:t>What is Shinto?</a:t>
            </a:r>
            <a:r>
              <a:rPr b="1" i="1" lang="ja-JP" sz="2800" spc="-1" strike="noStrike">
                <a:solidFill>
                  <a:srgbClr val="2d2525"/>
                </a:solidFill>
                <a:latin typeface="Times New Roman"/>
              </a:rPr>
              <a:t>”</a:t>
            </a:r>
            <a:r>
              <a:rPr b="1" i="1" lang="en-US" sz="2800" spc="-1" strike="noStrike">
                <a:solidFill>
                  <a:srgbClr val="2d2525"/>
                </a:solidFill>
                <a:latin typeface="Times New Roman"/>
              </a:rPr>
              <a:t>)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graphicFrame>
        <p:nvGraphicFramePr>
          <p:cNvPr id="143" name="Object 0"/>
          <p:cNvGraphicFramePr/>
          <p:nvPr/>
        </p:nvGraphicFramePr>
        <p:xfrm>
          <a:off x="304920" y="228600"/>
          <a:ext cx="1123920" cy="10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11239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75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Matura MT Script Capitals"/>
                <a:ea typeface="Matura MT Script Capitals"/>
              </a:rPr>
              <a:t>Shint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600" y="16765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d2525"/>
                </a:solidFill>
                <a:latin typeface="Times New Roman"/>
              </a:rPr>
              <a:t>The Shinto religion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 is based on a sense of sacredness in and of nature originating in the natural beauty of Japan. 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It is religion of feeling and acting (ceremonies, rites and rituals) more than of belief - thus it is sensory (in touch with surrounding nature and ritual activity) and communal (rich in public and national festivity and providing a sense of connection to a people)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graphicFrame>
        <p:nvGraphicFramePr>
          <p:cNvPr id="92" name="Object 9"/>
          <p:cNvGraphicFramePr/>
          <p:nvPr/>
        </p:nvGraphicFramePr>
        <p:xfrm>
          <a:off x="304920" y="228600"/>
          <a:ext cx="1123920" cy="10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11239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9"/>
          <p:cNvGraphicFramePr/>
          <p:nvPr/>
        </p:nvGraphicFramePr>
        <p:xfrm>
          <a:off x="304920" y="228600"/>
          <a:ext cx="1123920" cy="10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11239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Matura MT Script Capitals"/>
              </a:rPr>
              <a:t>What is Shinto?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The </a:t>
            </a:r>
            <a:r>
              <a:rPr b="0" i="1" lang="ja-JP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pirit Way</a:t>
            </a:r>
            <a:r>
              <a:rPr b="0" i="1" lang="ja-JP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”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(shin-to)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ncient, indigenous, mythical, nature religion of Japan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More 1500 years old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o founder – An </a:t>
            </a:r>
            <a:r>
              <a:rPr b="0" i="1" lang="ja-JP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ethnic</a:t>
            </a:r>
            <a:r>
              <a:rPr b="0" i="1" lang="ja-JP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”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religion of the Japanese peopl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The root and embodiment of Japanese cultur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75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Matura MT Script Capitals"/>
              </a:rPr>
              <a:t>Shinto Mythology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525"/>
                </a:solidFill>
                <a:latin typeface="Times New Roman"/>
              </a:rPr>
              <a:t>Two main texts: 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8d688"/>
                </a:solidFill>
                <a:latin typeface="Times New Roman"/>
              </a:rPr>
              <a:t>Kojiki</a:t>
            </a:r>
            <a:r>
              <a:rPr b="1" i="1" lang="en-US" sz="2400" spc="-1" strike="noStrike">
                <a:solidFill>
                  <a:srgbClr val="2d2525"/>
                </a:solidFill>
                <a:latin typeface="Times New Roman"/>
              </a:rPr>
              <a:t> (myths of ancient times, origins of gods and man)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8d688"/>
                </a:solidFill>
                <a:latin typeface="Times New Roman"/>
              </a:rPr>
              <a:t>Nihonji</a:t>
            </a:r>
            <a:r>
              <a:rPr b="1" i="1" lang="en-US" sz="2400" spc="-1" strike="noStrike">
                <a:solidFill>
                  <a:srgbClr val="2d2525"/>
                </a:solidFill>
                <a:latin typeface="Times New Roman"/>
              </a:rPr>
              <a:t> (ancient history of Japan)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525"/>
                </a:solidFill>
                <a:latin typeface="Times New Roman"/>
              </a:rPr>
              <a:t>Of gods &amp; goddesses: The </a:t>
            </a:r>
            <a:r>
              <a:rPr b="1" i="1" lang="en-US" sz="2800" spc="-1" strike="noStrike">
                <a:solidFill>
                  <a:srgbClr val="d8d688"/>
                </a:solidFill>
                <a:latin typeface="Times New Roman"/>
              </a:rPr>
              <a:t>Kami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d2525"/>
                </a:solidFill>
                <a:latin typeface="Times New Roman"/>
              </a:rPr>
              <a:t>Polytheistic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d2525"/>
                </a:solidFill>
                <a:latin typeface="Times New Roman"/>
              </a:rPr>
              <a:t>Nature deities – represent and control natural elements and forces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525"/>
                </a:solidFill>
                <a:latin typeface="Times New Roman"/>
              </a:rPr>
              <a:t>Creation myth – Japan as the center of the world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graphicFrame>
        <p:nvGraphicFramePr>
          <p:cNvPr id="100" name="Object 1024"/>
          <p:cNvGraphicFramePr/>
          <p:nvPr/>
        </p:nvGraphicFramePr>
        <p:xfrm>
          <a:off x="304920" y="228600"/>
          <a:ext cx="1123920" cy="10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11239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75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6"/>
          <p:cNvSpPr/>
          <p:nvPr/>
        </p:nvSpPr>
        <p:spPr>
          <a:xfrm>
            <a:off x="3962520" y="2286000"/>
            <a:ext cx="3581280" cy="2286360"/>
          </a:xfrm>
          <a:prstGeom prst="rect">
            <a:avLst/>
          </a:prstGeom>
          <a:solidFill>
            <a:srgbClr val="a7b4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8d688"/>
                </a:solidFill>
                <a:latin typeface="Times New Roman"/>
              </a:rPr>
              <a:t>Izanagi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 (</a:t>
            </a:r>
            <a:r>
              <a:rPr b="0" i="1" lang="ja-JP" sz="3200" spc="-1" strike="noStrike">
                <a:solidFill>
                  <a:srgbClr val="2d2525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male</a:t>
            </a:r>
            <a:r>
              <a:rPr b="0" i="1" lang="ja-JP" sz="3200" spc="-1" strike="noStrike">
                <a:solidFill>
                  <a:srgbClr val="2d2525"/>
                </a:solidFill>
                <a:latin typeface="Times New Roman"/>
              </a:rPr>
              <a:t>”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) &amp; </a:t>
            </a:r>
            <a:r>
              <a:rPr b="0" i="1" lang="en-US" sz="3200" spc="-1" strike="noStrike">
                <a:solidFill>
                  <a:srgbClr val="d8d688"/>
                </a:solidFill>
                <a:latin typeface="Times New Roman"/>
              </a:rPr>
              <a:t>izanami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 (</a:t>
            </a:r>
            <a:r>
              <a:rPr b="0" i="1" lang="ja-JP" sz="3200" spc="-1" strike="noStrike">
                <a:solidFill>
                  <a:srgbClr val="2d2525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emale</a:t>
            </a:r>
            <a:r>
              <a:rPr b="0" i="1" lang="ja-JP" sz="3200" spc="-1" strike="noStrike">
                <a:solidFill>
                  <a:srgbClr val="2d2525"/>
                </a:solidFill>
                <a:latin typeface="Times New Roman"/>
              </a:rPr>
              <a:t>”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) (brother &amp; sister) create the islands of Japan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Matura MT Script Capitals"/>
              </a:rPr>
              <a:t>Shinto Mythology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05" name="Picture 4" descr="Izanami &amp; Izanagi creating the islands of Japan"/>
          <p:cNvPicPr/>
          <p:nvPr/>
        </p:nvPicPr>
        <p:blipFill>
          <a:blip r:embed="rId1"/>
          <a:stretch/>
        </p:blipFill>
        <p:spPr>
          <a:xfrm>
            <a:off x="685800" y="1828800"/>
            <a:ext cx="3000240" cy="4648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6" name="Picture 5" descr="Amaterasu and other Kami"/>
          <p:cNvPicPr/>
          <p:nvPr/>
        </p:nvPicPr>
        <p:blipFill>
          <a:blip r:embed="rId2"/>
          <a:stretch/>
        </p:blipFill>
        <p:spPr>
          <a:xfrm>
            <a:off x="4038480" y="1828800"/>
            <a:ext cx="3556080" cy="4648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7" name="Text Box 7"/>
          <p:cNvSpPr/>
          <p:nvPr/>
        </p:nvSpPr>
        <p:spPr>
          <a:xfrm>
            <a:off x="152280" y="4952880"/>
            <a:ext cx="7543800" cy="1170360"/>
          </a:xfrm>
          <a:prstGeom prst="rect">
            <a:avLst/>
          </a:prstGeom>
          <a:solidFill>
            <a:srgbClr val="a7b4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8d688"/>
                </a:solidFill>
                <a:latin typeface="Times New Roman"/>
              </a:rPr>
              <a:t>Amaterasu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 – the Sun Goddess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Mother of the first emperor of Japan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graphicFrame>
        <p:nvGraphicFramePr>
          <p:cNvPr id="108" name="Object 1024"/>
          <p:cNvGraphicFramePr/>
          <p:nvPr/>
        </p:nvGraphicFramePr>
        <p:xfrm>
          <a:off x="304920" y="228600"/>
          <a:ext cx="1123920" cy="103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Object 10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28600"/>
                    <a:ext cx="11239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Matura MT Script Capitals"/>
              </a:rPr>
              <a:t>Three kinds</a:t>
            </a:r>
            <a:br>
              <a:rPr sz="4400"/>
            </a:br>
            <a:r>
              <a:rPr b="0" lang="en-US" sz="4400" spc="-1" strike="noStrike">
                <a:solidFill>
                  <a:srgbClr val="061c62"/>
                </a:solidFill>
                <a:latin typeface="Matura MT Script Capitals"/>
              </a:rPr>
              <a:t>of Shint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5c6d9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hrine/Folk Shinto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5c6d9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tate Shinto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5c6d9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t Shinto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304920" y="228600"/>
          <a:ext cx="1123920" cy="10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11239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7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Matura MT Script Capitals"/>
              </a:rPr>
              <a:t>Shrine Shint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8d688"/>
                </a:solidFill>
                <a:latin typeface="Times New Roman"/>
              </a:rPr>
              <a:t>Jinja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 (shrines) - Tens of thousands located throughout Japan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Natural structure, fits in with natural surrounding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8d688"/>
                </a:solidFill>
                <a:latin typeface="Times New Roman"/>
              </a:rPr>
              <a:t>Torii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 – entry gate, separates sacred from profane space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Rituals presided over by pries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Household shrines – </a:t>
            </a:r>
            <a:r>
              <a:rPr b="0" i="1" lang="en-US" sz="3200" spc="-1" strike="noStrike" u="sng">
                <a:solidFill>
                  <a:srgbClr val="365d96"/>
                </a:solidFill>
                <a:uFillTx/>
                <a:latin typeface="Times New Roman"/>
                <a:hlinkClick r:id="rId1"/>
              </a:rPr>
              <a:t>kamidana</a:t>
            </a:r>
            <a:r>
              <a:rPr b="0" i="1" lang="en-US" sz="3200" spc="-1" strike="noStrike" u="sng">
                <a:solidFill>
                  <a:srgbClr val="365d96"/>
                </a:solidFill>
                <a:uFillTx/>
                <a:latin typeface="Times New Roman"/>
                <a:hlinkClick r:id="rId2"/>
              </a:rPr>
              <a:t> </a:t>
            </a:r>
            <a:br>
              <a:rPr sz="3200"/>
            </a:b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(kami shelf)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16" name="Picture 16" descr="http://images.google.com/images?q=tbn:wzSfVcQnM64J:www.jccc.net/~jjackson/isec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380880"/>
            <a:ext cx="1382760" cy="1292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17" name="Picture 20" descr="http://www.miketobinphotography.com/Shinto%20Shrine%202.jpg"/>
          <p:cNvPicPr/>
          <p:nvPr/>
        </p:nvPicPr>
        <p:blipFill>
          <a:blip r:embed="rId5"/>
          <a:stretch/>
        </p:blipFill>
        <p:spPr>
          <a:xfrm>
            <a:off x="6095880" y="228600"/>
            <a:ext cx="2421000" cy="1596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aphicFrame>
        <p:nvGraphicFramePr>
          <p:cNvPr id="118" name="Object 23"/>
          <p:cNvGraphicFramePr/>
          <p:nvPr/>
        </p:nvGraphicFramePr>
        <p:xfrm>
          <a:off x="5943600" y="4572000"/>
          <a:ext cx="2362320" cy="1811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9" name="Object 2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43600" y="4572000"/>
                    <a:ext cx="2362320" cy="1811160"/>
                  </a:xfrm>
                  <a:prstGeom prst="rect">
                    <a:avLst/>
                  </a:prstGeom>
                  <a:ln w="12600">
                    <a:solidFill>
                      <a:srgbClr val="d8d688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75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Matura MT Script Capitals"/>
              </a:rPr>
              <a:t>State Shint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525"/>
                </a:solidFill>
                <a:latin typeface="Times New Roman"/>
              </a:rPr>
              <a:t>Meiji period (1868) – end of WWII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525"/>
                </a:solidFill>
                <a:latin typeface="Times New Roman"/>
              </a:rPr>
              <a:t>Emphasis on Japanese culture and nationality (elimination of foreign influences)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525"/>
                </a:solidFill>
                <a:latin typeface="Times New Roman"/>
              </a:rPr>
              <a:t>Emperors of Japan as divine 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525"/>
                </a:solidFill>
                <a:latin typeface="Times New Roman"/>
              </a:rPr>
              <a:t>Hierarchy of shrines: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d2525"/>
                </a:solidFill>
                <a:latin typeface="Times New Roman"/>
              </a:rPr>
              <a:t>Main shrine at </a:t>
            </a:r>
            <a:r>
              <a:rPr b="1" i="1" lang="en-US" sz="2400" spc="-1" strike="noStrike">
                <a:solidFill>
                  <a:srgbClr val="d8d688"/>
                </a:solidFill>
                <a:latin typeface="Times New Roman"/>
              </a:rPr>
              <a:t>Ise</a:t>
            </a:r>
            <a:r>
              <a:rPr b="1" i="1" lang="en-US" sz="2400" spc="-1" strike="noStrike">
                <a:solidFill>
                  <a:srgbClr val="2d2525"/>
                </a:solidFill>
                <a:latin typeface="Times New Roman"/>
              </a:rPr>
              <a:t> – dedicated to Amaterasu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d2525"/>
                </a:solidFill>
                <a:latin typeface="Times New Roman"/>
              </a:rPr>
              <a:t>Palace shrines honoring Amaterasu, other kami, and emperors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d2525"/>
                </a:solidFill>
                <a:latin typeface="Times New Roman"/>
              </a:rPr>
              <a:t>Shrines elsewhere dedicated to national heroes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d2525"/>
                </a:solidFill>
                <a:latin typeface="Times New Roman"/>
              </a:rPr>
              <a:t>97% of remaining shrines dedicated to local kami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304920" y="228600"/>
          <a:ext cx="1123920" cy="10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11239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75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Matura MT Script Capitals"/>
              </a:rPr>
              <a:t>Sect Shinto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13 recognized sect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NGO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Many founded in 19</a:t>
            </a:r>
            <a:r>
              <a:rPr b="0" i="1" lang="en-US" sz="3200" spc="-1" strike="noStrike" baseline="30000">
                <a:solidFill>
                  <a:srgbClr val="2d2525"/>
                </a:solidFill>
                <a:latin typeface="Times New Roman"/>
              </a:rPr>
              <a:t>th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 century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pecific founders and text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Unique teachings and practice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ome combine Shinto with influences from Buddhism or other religion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graphicFrame>
        <p:nvGraphicFramePr>
          <p:cNvPr id="126" name="Object 4"/>
          <p:cNvGraphicFramePr/>
          <p:nvPr/>
        </p:nvGraphicFramePr>
        <p:xfrm>
          <a:off x="304920" y="228600"/>
          <a:ext cx="1123920" cy="10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11239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75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2T17:45:23Z</dcterms:created>
  <dc:creator>Laura</dc:creator>
  <dc:description/>
  <dc:language>en-US</dc:language>
  <cp:lastModifiedBy>Microsoft Office User</cp:lastModifiedBy>
  <dcterms:modified xsi:type="dcterms:W3CDTF">2013-02-04T22:38:38Z</dcterms:modified>
  <cp:revision>30</cp:revision>
  <dc:subject/>
  <dc:title>Shinto</dc:title>
</cp:coreProperties>
</file>